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applause.wav" ContentType="audio/x-wav"/>
  <Override PartName="/ppt/media/image6.jpeg" ContentType="image/jpeg"/>
  <Override PartName="/ppt/media/image10.png" ContentType="image/png"/>
  <Override PartName="/ppt/media/camera.wav" ContentType="audio/x-wav"/>
  <Override PartName="/ppt/media/image22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bomb.wav" ContentType="audio/x-wav"/>
  <Override PartName="/ppt/media/image24.jpeg" ContentType="image/jpeg"/>
  <Override PartName="/ppt/media/image19.jpeg" ContentType="image/jpeg"/>
  <Override PartName="/ppt/media/image1.jpeg" ContentType="image/jpeg"/>
  <Override PartName="/ppt/media/image5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0502-F360-479E-AB2C-8D23CC3C4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840C-7A9B-44BF-8511-69AA6004E8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6821-4382-4DCD-9B1B-C50F0A7B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A9F2-6430-4D07-B485-8729CAA5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82091-76AD-49EE-8202-05A7B8FA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578D8-0CDF-4A78-AC94-DB534945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CFAE0-9052-4047-ABCB-194BE321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C3841-DD6C-48F9-BB42-22D912AD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2CD74-09E3-4E57-B21C-2BB75A52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154C7-C29D-4C90-914E-45878F6F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466AF-D818-4677-919B-CCC2561E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16838-7D10-426C-B82A-E6C320966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88283-CD4F-4E7E-BA0B-336ECB89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AB07-4D61-4F8C-BAD6-EC411B40B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6FB2-D744-4111-A9C9-42AD372D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3044-252D-4FD3-BBF2-CC2C94ABE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B1A9-C6AE-48FA-B411-303AE0CF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C027-B84D-4EF1-8E06-F6A68F19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24DF-259F-4FCA-9EC1-3238076F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D3E1-9A17-471C-8872-765588E6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4EBE-1D69-47CE-9B24-57B3172C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2860-3926-4A2A-AB5D-AAD119C2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51DB-4FBB-4820-8593-D49B9B66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17F3-890E-4609-8FAA-A8B4AE49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865F-4384-4F73-823C-E442AE0B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F8B3-53F1-4260-990D-9AF7CB70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82DF-5B5A-4828-A3FF-6C9B5539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C001-5F87-4BE3-B336-54C877259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CBFC6-99A1-46F3-A9EE-8227E4F7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A706F-F7C1-4DAF-AB92-F700F82A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A5E1F-DE55-4098-98E1-32A8E1A1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DC108-09F6-433D-8130-0F93CDE6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BE2F9-C0F7-4022-8E5A-BF59C4D0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3067-78F8-432F-A62E-7246F74C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3AF37-EFE6-462D-BEE6-8A90E33A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B94F5-E77C-4A32-81C1-27059A88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2795C-6CA8-400A-8494-02779D2D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97F2D-42EE-4C4F-AE4B-0B22A42E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269B1-C7BD-4790-BD9E-6878EDE1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6DA82-85BC-41A7-9FD2-80D76FED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3332F-94CB-4041-9DA9-64108CD7F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2D546-B2E7-45FB-B8FA-D5EC006D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609BB-E7ED-48A6-8AAA-88EFF8D0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3A2A7-8C1F-46B5-929D-2E335F17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5EF6-96FE-4A35-ADCA-10132CC3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A3CEA-C6D7-49EE-8AA1-F76316CC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690FD-6A55-44B8-BF69-0C1CE73A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CE68C-E4A5-4C94-B7A1-8B407EC7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60983-1CD1-4048-A802-10434029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6032F-B6D2-4DEF-BD52-FF6DFA0B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2B1CD-5DE0-4055-9144-8AA79FE1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76C23-3166-48EA-A412-0BDA406B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3C59F-5EF2-4F01-BF10-4273B05E3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5F09A-8888-44B8-94C7-0463B9F3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E97A5-3B64-4D3E-8597-6493EF6C1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824F-58B3-484B-8618-973116A9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5335D-C430-4DF5-98F8-BA06E02B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E2271-5506-4C41-AE15-534B5D0F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6A7FA-1540-4C3E-94B0-D1A45D21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2A55F-6D5B-49FF-8282-E7C61AA6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BFB1C-24A8-4407-ADB4-1328D0BE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2E8D6-9E3A-45CC-B7C9-26297325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FB9A2-B783-4971-A9FE-D15389E7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77F0F-D59A-40B4-BC0E-E7B639F8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92F5C-9680-4BB2-B618-7E3765AE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AC373-FF8F-450B-B598-139C139D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B29A-F465-4969-8B25-EEED95E1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7774D-A93D-4279-9DE5-9B8E22AB0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6CE14-85A5-437A-905F-6A2B4A1AC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AC25E-20A0-4114-9ED2-B0285EB4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8E564-491D-49CC-81F8-40020270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7560E-99CA-48C8-AEBC-93DBCB9E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D96B2-50DA-4E27-AEAE-7E62FF9A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43247-76E6-48D7-ACBF-897B9630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7DF33-DD23-4052-A97D-8D9C25D9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9F0CA-C954-4A68-88AF-810B7560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5529B-12D5-4787-A33F-92C6678A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CFD5-56BD-447D-915E-FC9FA00C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CADFD-F638-49FD-9944-A5A56B05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18003-E2FB-494E-B44A-4B0B22943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47A9F-EE13-4A31-AA6E-1A2295349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C514E-C6CB-41F5-9872-246D9508A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CDA70-5D61-4319-BF43-0193F554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BE52B-4C24-41FF-B741-2B682521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EADBC-FFD3-45F2-9CF1-60C14AB4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39A1C-155C-4CDA-8228-F61063ED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F8A11-B8A6-4ED0-9B75-504DC798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69E0D-D842-4C1C-B77E-D056B92C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2955-7FD4-4D72-87B9-4D6C7359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84937-A71D-4C36-91CC-40F4E45C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5F58D-2A9D-4215-8D0C-F90F8EAF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F783E-F4B7-4C87-BC3C-0F6027D3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41B1E-17BC-4A65-954A-7678A1C70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0018A-44C6-4476-94E7-EE72ED73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2D1CD-4C28-4A7D-A9CF-CA90528A2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825BE-F2DB-49A9-9DF0-B0424767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25077-8FE2-473A-A43D-B50C9FD3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680EE-5862-4237-8992-9E9754AE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4A3A9-541A-4803-876D-6D95A58F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13D0-5561-4A18-90C6-719FA480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93937-CE35-4D24-AA56-F6F2325E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CC995-410F-4BA8-8F0E-B6145979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58F2D-506D-493D-85F7-C565F8DF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62D11-4CAB-43E8-805D-C180D009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217CF-3906-43AB-8B0D-F93BADF6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5288F-B238-4AEF-83A8-AB7FA6B6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06ABA-0764-4470-84D7-F21D3861C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17F5D-234C-40F8-A430-9B5A487A2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DF5D7-50EE-451B-B3C8-E4CF8824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38506-4FCC-4396-B476-3E1838D9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0108-2F6A-4477-AE14-75DD55554D2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118F-788D-45DD-8410-FBC6500F676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4809-C29B-4D8E-B845-0845A354E58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16DA-B71A-4D4B-9425-8922D56AA5F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630D-955E-441D-9637-08E736F632F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0DC2-8F10-4E1A-8C52-584B9E1BA66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44F5-97D1-409F-AD31-BBB50997547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779F-C5BE-4E01-B77C-A6E23A6F95A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1ECB-4E96-460E-9F63-97F8CA3497E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www.usmint.gov/kids/games/LewisClarkAdventure/" TargetMode="External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"/>
              </a:rPr>
              <a:t>By: younique ,upchurch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3" descr="clark.jpg"/>
          <p:cNvPicPr/>
          <p:nvPr/>
        </p:nvPicPr>
        <p:blipFill>
          <a:blip r:embed="rId2"/>
          <a:stretch/>
        </p:blipFill>
        <p:spPr>
          <a:xfrm>
            <a:off x="304920" y="152280"/>
            <a:ext cx="2806560" cy="22482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lewis.jpg"/>
          <p:cNvPicPr/>
          <p:nvPr/>
        </p:nvPicPr>
        <p:blipFill>
          <a:blip r:embed="rId3"/>
          <a:stretch/>
        </p:blipFill>
        <p:spPr>
          <a:xfrm>
            <a:off x="5486400" y="152280"/>
            <a:ext cx="2832120" cy="2121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  <p:sndAc>
      <p:stSnd>
        <p:snd r:embed="rId4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http://www.usmint.gov/kids/games/LewisClarkAdventure/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newsflash/>
    <p:sndAc>
      <p:stSnd>
        <p:snd r:embed="rId3" name="bomb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1" name="Content Placeholder 3" descr="untitled.bmp"/>
          <p:cNvPicPr/>
          <p:nvPr/>
        </p:nvPicPr>
        <p:blipFill>
          <a:blip r:embed="rId2"/>
          <a:stretch/>
        </p:blipFill>
        <p:spPr>
          <a:xfrm>
            <a:off x="609480" y="1371600"/>
            <a:ext cx="7848720" cy="5270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165240" y="450720"/>
            <a:ext cx="8832600" cy="9813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at Lewis and Clark found a </a:t>
            </a:r>
            <a:r>
              <a:rPr b="1" lang="en-US" sz="3200" spc="-1" strike="noStrike">
                <a:solidFill>
                  <a:srgbClr val="404040"/>
                </a:solidFill>
                <a:latin typeface="Franklin Gothic Book"/>
              </a:rPr>
              <a:t>Black-Tailed Prairie Dog</a:t>
            </a:r>
            <a:r>
              <a:rPr b="0" lang="en-US" sz="3200" spc="-1" strike="noStrike">
                <a:solidFill>
                  <a:srgbClr val="40404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Picture 9" descr="Picture7.jpg"/>
          <p:cNvPicPr/>
          <p:nvPr/>
        </p:nvPicPr>
        <p:blipFill>
          <a:blip r:embed="rId2"/>
          <a:stretch/>
        </p:blipFill>
        <p:spPr>
          <a:xfrm>
            <a:off x="2514600" y="2895480"/>
            <a:ext cx="4851360" cy="3683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pic>
        <p:nvPicPr>
          <p:cNvPr id="416" name="Content Placeholder 3" descr="Picture9.jpg"/>
          <p:cNvPicPr/>
          <p:nvPr/>
        </p:nvPicPr>
        <p:blipFill>
          <a:blip r:embed="rId2"/>
          <a:stretch/>
        </p:blipFill>
        <p:spPr>
          <a:xfrm>
            <a:off x="2743200" y="1773360"/>
            <a:ext cx="3657600" cy="4089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pic>
        <p:nvPicPr>
          <p:cNvPr id="418" name="Content Placeholder 11" descr="Picture8.jpg"/>
          <p:cNvPicPr/>
          <p:nvPr/>
        </p:nvPicPr>
        <p:blipFill>
          <a:blip r:embed="rId2"/>
          <a:stretch/>
        </p:blipFill>
        <p:spPr>
          <a:xfrm>
            <a:off x="2222640" y="2230560"/>
            <a:ext cx="4851360" cy="3174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le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pic>
        <p:nvPicPr>
          <p:cNvPr id="420" name="Content Placeholder 5" descr="Picture10.jpg"/>
          <p:cNvPicPr/>
          <p:nvPr/>
        </p:nvPicPr>
        <p:blipFill>
          <a:blip r:embed="rId2"/>
          <a:stretch/>
        </p:blipFill>
        <p:spPr>
          <a:xfrm>
            <a:off x="2222640" y="2211480"/>
            <a:ext cx="4851360" cy="3213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2" name="Content Placeholder 3" descr="Picture2.jpg"/>
          <p:cNvPicPr/>
          <p:nvPr/>
        </p:nvPicPr>
        <p:blipFill>
          <a:blip r:embed="rId2"/>
          <a:stretch/>
        </p:blipFill>
        <p:spPr>
          <a:xfrm>
            <a:off x="2514600" y="259092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Content Placeholder 45" descr="Picture3.jpg"/>
          <p:cNvPicPr/>
          <p:nvPr/>
        </p:nvPicPr>
        <p:blipFill>
          <a:blip r:embed="rId1"/>
          <a:stretch/>
        </p:blipFill>
        <p:spPr>
          <a:xfrm>
            <a:off x="2955960" y="2219400"/>
            <a:ext cx="4487760" cy="4078080"/>
          </a:xfrm>
          <a:prstGeom prst="rect">
            <a:avLst/>
          </a:prstGeom>
          <a:ln w="0">
            <a:noFill/>
          </a:ln>
        </p:spPr>
      </p:pic>
      <p:pic>
        <p:nvPicPr>
          <p:cNvPr id="424" name="Title 1" descr=""/>
          <p:cNvPicPr/>
          <p:nvPr/>
        </p:nvPicPr>
        <p:blipFill>
          <a:blip r:embed="rId2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pic>
        <p:nvPicPr>
          <p:cNvPr id="426" name="Content Placeholder 7" descr="Picture5.jpg"/>
          <p:cNvPicPr/>
          <p:nvPr/>
        </p:nvPicPr>
        <p:blipFill>
          <a:blip r:embed="rId2"/>
          <a:stretch/>
        </p:blipFill>
        <p:spPr>
          <a:xfrm>
            <a:off x="1143000" y="3124080"/>
            <a:ext cx="2124000" cy="22860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Picture4.jpg"/>
          <p:cNvPicPr/>
          <p:nvPr/>
        </p:nvPicPr>
        <p:blipFill>
          <a:blip r:embed="rId3"/>
          <a:stretch/>
        </p:blipFill>
        <p:spPr>
          <a:xfrm>
            <a:off x="4724280" y="2819520"/>
            <a:ext cx="2624400" cy="2624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4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00:33:57Z</dcterms:created>
  <dc:creator>shavonnah.upchurch</dc:creator>
  <dc:description/>
  <dc:language>en-US</dc:language>
  <cp:lastModifiedBy>Shavonnah Upchurch</cp:lastModifiedBy>
  <dcterms:modified xsi:type="dcterms:W3CDTF">2008-05-21T01:13:58Z</dcterms:modified>
  <cp:revision>5</cp:revision>
  <dc:subject/>
  <dc:title>Lewis and Clark route</dc:title>
</cp:coreProperties>
</file>